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B78-4550-45A8-8A8D-139FEE52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680-0BDD-4456-9EEC-2BA3DDF7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A3D-96BF-4EAE-A72C-3E4DECA7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B42-FB98-4A07-BBA5-82D31923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9365-2A4A-4C2E-A459-409E40AB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7893-AB88-421D-B748-33F42B62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CB15-E703-4665-9214-97012D2D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70D1-F336-4F06-BFE0-2475BB1A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1295-0A71-4054-B94D-F01E7099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1C97-5850-42C8-BE86-6B5CD0C7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95B0-4D90-4B3F-A467-632C3BB7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4AD-944C-408D-9C96-537FBA23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CEB3-9576-4A59-B3AD-342BD185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3AFE-1F8F-4DFB-B33A-D546FFB3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06CE-6998-4C2B-BF80-1C1C6BB3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F061-D24A-43C5-91DD-E10CC23F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9C4E-F905-466E-A663-A65DD23D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967-4341-4088-8618-B67B2036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2B2-7239-44DE-8F9C-32621E04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CF2-4BEA-4CEF-A0E7-7C860665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B2B-8E74-4A34-8542-64F08C67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51F-1CB8-44AA-95CD-F225CE0F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A6D-347E-4CBE-8B18-075EA3D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8EB-2E25-4B87-AD50-E506DE23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45B6-B064-46EC-993C-9D21C921B8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99ED-D461-46E2-B191-1DD24D8E06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Preterm Delivery:  An Update on Prevention and Treatmen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ra Lehman, MD MP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CRM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une 3, 200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gnesium Sulfate: Friend of Fo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colytics have never been shown to significantly prolong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rge meta-analyses of Mg++ have failed to show even the 48hr delay of delivery necessary for steroid administ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a-blockers delay c. 48h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ium channel blockers delay 1-4 days, with less side eff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mhan et al (NEJM August 2007) recommended </a:t>
            </a: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AGAIN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Mg++ use for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rvical Length for screening of High Risk Pati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V sono with EMPTY BLADDER 16-20 week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gt;3 cm is reassu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2.5 cm is concernin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ial son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Cerclage in pre-vi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eroi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F mod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1.5 cm is the highest risk group where treatment shown to improve outcom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gesterone supplementation (OR 0.56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esium and Neonatal Neuroprot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use et al (NEJM Aug 200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241 women in preterm labor with expected delivery 24-31 weeks randomized to Mg++ or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overall CP (11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rease in moderate - severe CP 1.9% vs. 3.5% (OR 0.5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neonatal de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life threatening maternal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entify risk factors for PTD that can be modified in prenatal c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cribe the use of progesterone to prevent PT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stand the use of FFN and cervical length in the diagnosis of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 familiar with the controversy surrounding Magnesium Sulfate as the go to drug in PT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ce of Preterm Bi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ications of prematurity/preterm birth are the number one cause of neonatal mortality in the U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12% of births are preterm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&lt;37 week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te of preterm birth has been steadily rising since 198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stimated $13.6 billion in health care expenditure in 200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tory of preterm deliv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ternal age (extreme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fetal gestations/A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lyhydramni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ervical surgery/LEEP/D&amp;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terine anomalies/Lyom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bstance abuse (cocaine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sk Factors – What we can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gnancy Interval of &lt;6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ce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5%in polysubstance us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em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 9.5 at 12 week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Work Stress In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gt;36 hrs/week, prolonged standing, heavy lifting, skipped mea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ital Inf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GC/CT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V – maybe in select group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richomonas - only for symptom contro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YMPTOMATIC BACT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is et al (NEJM 2003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59 women with history of PT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50 mg IM weekly 17 alpha-hydroxyprogesterone caproate vs. placeb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-20 weeks through 36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R 0.66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so showed decreased NEC, IVH, O2 needs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ple others have confirmed decreased PTD if started up to 26 wee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- limit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a-analyses have NOT confirmed the decrease in the complications of prematur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7 alpha-OH progesterone no longer manufactured in U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cent studies focused on vaginal progesterone gel have not found a benef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rly cessation increases risk of PTD (OR 2.11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 role in prolonging multifetal or FFN + pregnanc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is of Preterm Labor : FF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phoblast glue present in cervical secretions prior to 20 wks gestation and at ter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sent between 22 and 34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gative predictive value of 99.5% for 7 days and 99.2% for 14 d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itive predictive value is ONLY 29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use to direct steroid administr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NT to prevent RDS =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gnosis of Preterm Labor: Cervical Leng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gt;3 cm has a NPV of nearly 100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lt;/= 2.5 cm has a strong association with PTD and warrants active manag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5 -3 cm is a grey zone where FFN can guide steroid 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3:13:53Z</dcterms:created>
  <dc:creator>o</dc:creator>
  <dc:description/>
  <dc:language>en-US</dc:language>
  <cp:lastModifiedBy>o</cp:lastModifiedBy>
  <dcterms:modified xsi:type="dcterms:W3CDTF">2009-06-03T06:54:24Z</dcterms:modified>
  <cp:revision>7</cp:revision>
  <dc:subject/>
  <dc:title>Preterm Delivery:  An Update on Prevention and Treatment</dc:title>
</cp:coreProperties>
</file>